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34F-3BD4-4E1A-B411-53A206BA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D16-BECD-4C2A-BE35-F137F700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871-6A9C-4410-8CE7-45AC3A03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585-FFB4-4152-A7F1-251784ED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0537-FB01-4ABD-AA68-0D61BC29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1980-0F86-4357-8CE3-2E0445F7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290A-5514-4CD5-907C-49E2234A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FF64-E0E1-44C5-A8CE-E4821C65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D555-A6AD-421A-9250-B7F1D3E8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3300-B209-4141-B113-7EBE6DD2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697B-D161-46A6-B862-35DCB475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1F6F-2050-4E6C-B043-D98DD897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EF7A-6D79-47D8-9636-4631D001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A40E-8DC2-4718-872C-EE4F37BF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E01C-4A3C-45B3-8FD9-E1DE44AA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6E88-60D3-473B-B9F3-DA8B8171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F33B-970B-4AE9-8284-FF08F563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2EEC-65E7-4593-858E-915535EC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299D-4584-4DD7-BA08-635A411A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6300-D8D2-47A1-B04B-0F139520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727E-455E-4D13-A4AA-52FA4400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A25E-1610-4121-B216-3B5981E9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C782-9028-4B04-A6E2-EE530CAA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F9D0-D1BB-441A-9817-58F6C6F6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D242-59BB-4378-A0B3-FC0F20CCB0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38B2-C7CF-487A-AD51-A5C30708D1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44956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La Cas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: Sheehan Choudh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6250" r="0" b="6250"/>
          <a:stretch/>
        </p:blipFill>
        <p:spPr>
          <a:xfrm>
            <a:off x="4952880" y="457200"/>
            <a:ext cx="3429000" cy="330840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Sal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una sala. Es estupendola, magnif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>
            <a:lum contrast="-2000"/>
          </a:blip>
          <a:stretch/>
        </p:blipFill>
        <p:spPr>
          <a:xfrm>
            <a:off x="533520" y="2513160"/>
            <a:ext cx="3927240" cy="251460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Cuatr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748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 cuatro. Es lujoso y be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9880" y="2514600"/>
            <a:ext cx="4524480" cy="3133800"/>
          </a:xfrm>
          <a:prstGeom prst="rect">
            <a:avLst/>
          </a:prstGeom>
          <a:ln w="7632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Cocin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rot="21070800">
            <a:off x="5029200" y="1599840"/>
            <a:ext cx="3228840" cy="308628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990720" y="2590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a cocina. Es grande y be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Comed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 rot="21081000">
            <a:off x="3962160" y="2666880"/>
            <a:ext cx="4524120" cy="33912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914400" y="2590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 comedor. Es bonito, bello y magni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Ban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 rot="20929800">
            <a:off x="4038480" y="1905120"/>
            <a:ext cx="4067280" cy="3047760"/>
          </a:xfrm>
          <a:prstGeom prst="rect">
            <a:avLst/>
          </a:prstGeom>
          <a:ln w="76320">
            <a:solidFill>
              <a:srgbClr val="ccffcc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91440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 bano. Es bonito y impresio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Pati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267080" y="3048120"/>
            <a:ext cx="4067280" cy="285912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914400" y="25909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 patio. Es, moderno y nue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Jard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 rot="21104400">
            <a:off x="4267080" y="2514600"/>
            <a:ext cx="3381480" cy="3048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914400" y="2743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 jardin. Es grande y antigu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13:44Z</dcterms:created>
  <dc:creator>choudhuryshe</dc:creator>
  <dc:description/>
  <dc:language>en-US</dc:language>
  <cp:lastModifiedBy>choudhuryshe</cp:lastModifiedBy>
  <dcterms:modified xsi:type="dcterms:W3CDTF">2013-04-04T15:47:32Z</dcterms:modified>
  <cp:revision>7</cp:revision>
  <dc:subject/>
  <dc:title>La Casa</dc:title>
</cp:coreProperties>
</file>